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4500-4EA3-4C73-9C02-095801F0A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9ACD-15C0-4A8A-BACF-68CAE275E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9738-29AD-4CE9-A288-C367BBAAE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185F-D436-4769-BAD2-CFF395222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ECEF-6622-48F2-8450-185AE2E97E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23D1C-8A28-440D-8F75-8648394CA4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C948-7DA9-420D-86C6-73EE52D8C7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59A3-3464-4525-933F-0AC5739753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4062-E8F5-4418-9097-78A8AACCB5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BB66-4D61-442D-B39B-42D42CE568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4B18-8BF6-41A6-8EE2-30D7A889F4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9FD5-B1A0-487F-8521-1993008F6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22B1-5926-424F-B75C-ABC9882C23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EEA7-248C-421B-BB13-D1EADE5DA2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95BC-13BB-49B0-8656-E0883B1E42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4C728-A9BC-41A3-8C9C-F0FC437097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599D-82E8-4500-BDF0-AD8420BE59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721F-C003-4147-861D-7B7CB9A0B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F548-F054-40D5-901B-76DC60308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69C3-5335-477C-BEE5-26CBF8700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B1EF-57AA-454F-9D6F-44112DB47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AD13-2859-45CC-8C03-54D8B4AB2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C754-90A8-4789-8DA1-FC4CAE089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5433-3016-44FC-83DC-024D70BE7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E614-5CF2-4CA0-840D-6CAC4F4E1C06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BD81-1ADA-443D-B94C-707CF10E4457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WordArt 5" descr=""/>
          <p:cNvPicPr/>
          <p:nvPr/>
        </p:nvPicPr>
        <p:blipFill>
          <a:blip r:embed="rId1"/>
          <a:stretch/>
        </p:blipFill>
        <p:spPr>
          <a:xfrm>
            <a:off x="1011240" y="450720"/>
            <a:ext cx="7224840" cy="18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блема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Западной Европе, по данным ООН, только 39 % молодых людей от 15 до 24 лет обеспечены работой, в России этот показатель ниже – 31 %.</a:t>
            </a: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1" name="Picture 6" descr="Рисунок10"/>
          <p:cNvPicPr/>
          <p:nvPr/>
        </p:nvPicPr>
        <p:blipFill>
          <a:blip r:embed="rId2"/>
          <a:stretch/>
        </p:blipFill>
        <p:spPr>
          <a:xfrm>
            <a:off x="6172200" y="4356000"/>
            <a:ext cx="2131920" cy="20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ервый тип: человек – природа. Люди этих профессий имеют дело с живой и неживой природой: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Ветеринар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Агроном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Гидролог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ханизатор;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Тракторист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Для них характерен общий предмет труда животные и растения, почва и воздушная среда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4" name="Picture 6" descr="Рисунок9"/>
          <p:cNvPicPr/>
          <p:nvPr/>
        </p:nvPicPr>
        <p:blipFill>
          <a:blip r:embed="rId6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7"/>
          <a:stretch/>
        </p:blipFill>
        <p:spPr>
          <a:xfrm>
            <a:off x="2876400" y="2895480"/>
            <a:ext cx="2171880" cy="32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8"/>
          <a:stretch/>
        </p:blipFill>
        <p:spPr>
          <a:xfrm>
            <a:off x="5394240" y="2895480"/>
            <a:ext cx="205416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9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торой тип: человек – техника. Это могут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быть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етч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одител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атрос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окар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слесари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и другие профессии, использующие технические устройства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9" name="Picture 6" descr="Рисунок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8"/>
          <a:stretch/>
        </p:blipFill>
        <p:spPr>
          <a:xfrm>
            <a:off x="4705200" y="3328920"/>
            <a:ext cx="1768680" cy="2882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9"/>
          <a:stretch/>
        </p:blipFill>
        <p:spPr>
          <a:xfrm>
            <a:off x="2419200" y="2584440"/>
            <a:ext cx="2171880" cy="28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10"/>
          <a:stretch/>
        </p:blipFill>
        <p:spPr>
          <a:xfrm>
            <a:off x="6534000" y="2610000"/>
            <a:ext cx="218304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ретий тип: человек – человек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едметом труда в этой профессии является другой человек, а характерной чертой деятельности – воздействие на других людей. К такому типу профессий относятся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учитель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рач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журналист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одавец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95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3048120" y="4114800"/>
            <a:ext cx="199224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7715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8"/>
          <a:stretch/>
        </p:blipFill>
        <p:spPr>
          <a:xfrm>
            <a:off x="7315200" y="4143240"/>
            <a:ext cx="1230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Четвертый тип: человек – знаковая система. Специалисты такого типа используют в своем труде различные знаки: устная и письменная речь, цифры, химические и физические символы, ноты, схемы, карты, графики, рисунки, дорожные знаки. Это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бухгалтеры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ученые,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юди, работающие в лабораториях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научных центрах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1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6613560" y="469800"/>
            <a:ext cx="1994040" cy="287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7"/>
          <a:stretch/>
        </p:blipFill>
        <p:spPr>
          <a:xfrm>
            <a:off x="390600" y="609480"/>
            <a:ext cx="1457280" cy="287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8"/>
          <a:stretch/>
        </p:blipFill>
        <p:spPr>
          <a:xfrm>
            <a:off x="6461280" y="4145040"/>
            <a:ext cx="2427120" cy="44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ый тип: человек – художественный образ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юдей этого типа отличает наличие живого образного мышления, художественная фантазия, талант. Это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узыкант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художн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актер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дизайнеры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7" name="Picture 6" descr="Рисунок11"/>
          <p:cNvPicPr/>
          <p:nvPr/>
        </p:nvPicPr>
        <p:blipFill>
          <a:blip r:embed="rId5"/>
          <a:stretch/>
        </p:blipFill>
        <p:spPr>
          <a:xfrm>
            <a:off x="6297480" y="3962520"/>
            <a:ext cx="2171880" cy="24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6"/>
          <a:stretch/>
        </p:blipFill>
        <p:spPr>
          <a:xfrm>
            <a:off x="3962520" y="3395520"/>
            <a:ext cx="1938240" cy="288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7"/>
          <a:stretch/>
        </p:blipFill>
        <p:spPr>
          <a:xfrm>
            <a:off x="2871720" y="5029200"/>
            <a:ext cx="1938240" cy="28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8"/>
          <a:stretch/>
        </p:blipFill>
        <p:spPr>
          <a:xfrm>
            <a:off x="5924520" y="4468680"/>
            <a:ext cx="1944720" cy="28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Лента новостей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Ярмарка профессий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огистик – специалист, регулирующий потоки: складские, транспортные, производственные. Транспортный логистик придумывает схемы перевозки грузов компании, складской логистик занимается организацией хранения продукции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аркетолог – в переводе с латыни «знающий рынок». Специалист, изучающий рынок для того, чтобы узнать потребности покупателей, их вкусы и предпочтения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рчендайзер – это человек, который следит за тем, как товар его фирмы представлен в крупных магазинах. Он обходит магазины, дает советы по размещению товара, по оформлению витрин. Этой специальности пока не обучают ни в одном учебном заведении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3" name="Picture 6" descr="Рисунок23"/>
          <p:cNvPicPr/>
          <p:nvPr/>
        </p:nvPicPr>
        <p:blipFill>
          <a:blip r:embed="rId4"/>
          <a:stretch/>
        </p:blipFill>
        <p:spPr>
          <a:xfrm>
            <a:off x="228600" y="228600"/>
            <a:ext cx="16527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Занимательные факты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Самые редкие профессии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Титестер – дегустатор чая.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Постижёр - это специалист по изготовлению париков, усов, бород и бакенбардов.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Мастер спецэффектов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6" name="Picture 6" descr="Рисунок17"/>
          <p:cNvPicPr/>
          <p:nvPr/>
        </p:nvPicPr>
        <p:blipFill>
          <a:blip r:embed="rId4"/>
          <a:stretch/>
        </p:blipFill>
        <p:spPr>
          <a:xfrm>
            <a:off x="6324480" y="4362480"/>
            <a:ext cx="22910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990720" y="50292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6"/>
          <a:stretch/>
        </p:blipFill>
        <p:spPr>
          <a:xfrm>
            <a:off x="3505320" y="5116680"/>
            <a:ext cx="1790640" cy="155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7"/>
          <a:stretch/>
        </p:blipFill>
        <p:spPr>
          <a:xfrm>
            <a:off x="6053040" y="3948120"/>
            <a:ext cx="14382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лякса</dc:creator>
  <dc:description/>
  <dc:language>en-US</dc:language>
  <cp:lastModifiedBy>MAGNUM</cp:lastModifiedBy>
  <cp:lastPrinted>2002-01-16T03:48:31Z</cp:lastPrinted>
  <dcterms:modified xsi:type="dcterms:W3CDTF">2002-01-16T04:22:4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