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FF27-7A14-4B34-987F-7332985B8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A967-2E0E-4E19-8262-48B4CD732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0053-CF0E-45F7-A36E-7FEFBAD1C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F648-8204-4B0A-BDEF-1C10C5885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391AA-1CBC-4F96-B0CF-154FB37ECF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A5BD-7998-4678-A94A-8C307481ED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5C770-33E2-466C-B504-BFCD57DE62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7EB46-516D-498D-B7FE-6DFC6635C2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E10F-E0D9-4E6A-B1F8-98855B1D15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52B88-9141-4C63-835E-CFBDE61AF3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D447-6474-4437-B2F7-86BE0F57A8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9272-39E9-4B1C-AEFE-A316B1383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B902-5525-4074-9982-C867CA65A8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8578-799F-42AD-85CB-93D81199CC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2455-CFBC-4918-B599-7377BC6871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76783-C393-439C-8CEA-8B57D540D0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73CE0-07F4-4DD0-BF49-FCBC228F08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0414-0E10-4F5D-A941-E87DF0B88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F848-9B9B-40F9-961B-6B879C59E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1A49-A5D1-4134-A65D-0A2FB297D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E76A-9825-4D74-9778-F26BEFEB5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7EB4-4D71-43DE-A672-3B8D77C87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4B95-F75A-4E6E-B817-6C4CAF60B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702A-A684-4DEA-91EC-6923FD145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98C0-66F6-4550-AB11-A9ADF41BEB6A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4463-07C0-4330-A69E-67134E7E4A23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WordArt 5" descr=""/>
          <p:cNvPicPr/>
          <p:nvPr/>
        </p:nvPicPr>
        <p:blipFill>
          <a:blip r:embed="rId1"/>
          <a:stretch/>
        </p:blipFill>
        <p:spPr>
          <a:xfrm>
            <a:off x="1011240" y="450720"/>
            <a:ext cx="7224840" cy="18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блема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Западной Европе, по данным ООН, только 39 % молодых людей от 15 до 24 лет обеспечены работой, в России этот показатель ниже – 31 %.</a:t>
            </a: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1" name="Picture 6" descr="Рисунок10"/>
          <p:cNvPicPr/>
          <p:nvPr/>
        </p:nvPicPr>
        <p:blipFill>
          <a:blip r:embed="rId2"/>
          <a:stretch/>
        </p:blipFill>
        <p:spPr>
          <a:xfrm>
            <a:off x="6172200" y="4356000"/>
            <a:ext cx="2131920" cy="20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ервый тип: человек – природа. Люди этих профессий имеют дело с живой и неживой природой: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Ветеринар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Агроном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Гидролог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ханизатор;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Тракторист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Для них характерен общий предмет труда животные и растения, почва и воздушная среда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4" name="Picture 6" descr="Рисунок9"/>
          <p:cNvPicPr/>
          <p:nvPr/>
        </p:nvPicPr>
        <p:blipFill>
          <a:blip r:embed="rId6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7"/>
          <a:stretch/>
        </p:blipFill>
        <p:spPr>
          <a:xfrm>
            <a:off x="2876400" y="2895480"/>
            <a:ext cx="2171880" cy="32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8"/>
          <a:stretch/>
        </p:blipFill>
        <p:spPr>
          <a:xfrm>
            <a:off x="5394240" y="2895480"/>
            <a:ext cx="205416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9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торой тип: человек – техника. Это могут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быть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етч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одител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атрос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окар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слесари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и другие профессии, использующие технические устройства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9" name="Picture 6" descr="Рисунок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8"/>
          <a:stretch/>
        </p:blipFill>
        <p:spPr>
          <a:xfrm>
            <a:off x="4705200" y="3328920"/>
            <a:ext cx="1768680" cy="2882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9"/>
          <a:stretch/>
        </p:blipFill>
        <p:spPr>
          <a:xfrm>
            <a:off x="2419200" y="2584440"/>
            <a:ext cx="2171880" cy="28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10"/>
          <a:stretch/>
        </p:blipFill>
        <p:spPr>
          <a:xfrm>
            <a:off x="6534000" y="2610000"/>
            <a:ext cx="2183040" cy="28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ретий тип: человек – человек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едметом труда в этой профессии является другой человек, а характерной чертой деятельности – воздействие на других людей. К такому типу профессий относятся: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учитель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рач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журналист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одавец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95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3048120" y="4114800"/>
            <a:ext cx="199224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17715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8"/>
          <a:stretch/>
        </p:blipFill>
        <p:spPr>
          <a:xfrm>
            <a:off x="7315200" y="4143240"/>
            <a:ext cx="12304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Четвертый тип: человек – знаковая система. Специалисты такого типа используют в своем труде различные знаки: устная и письменная речь, цифры, химические и физические символы, ноты, схемы, карты, графики, рисунки, дорожные знаки. Это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бухгалтеры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ученые,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юди, работающие в лабораториях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научных центрах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1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6613560" y="469800"/>
            <a:ext cx="1994040" cy="287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7"/>
          <a:stretch/>
        </p:blipFill>
        <p:spPr>
          <a:xfrm>
            <a:off x="390600" y="609480"/>
            <a:ext cx="1457280" cy="287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8"/>
          <a:stretch/>
        </p:blipFill>
        <p:spPr>
          <a:xfrm>
            <a:off x="6461280" y="4145040"/>
            <a:ext cx="2427120" cy="44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ый тип: человек – художественный образ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юдей этого типа отличает наличие живого образного мышления, художественная фантазия, талант. Это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узыкант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художн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актер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дизайнеры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7" name="Picture 6" descr="Рисунок11"/>
          <p:cNvPicPr/>
          <p:nvPr/>
        </p:nvPicPr>
        <p:blipFill>
          <a:blip r:embed="rId5"/>
          <a:stretch/>
        </p:blipFill>
        <p:spPr>
          <a:xfrm>
            <a:off x="6297480" y="3962520"/>
            <a:ext cx="2171880" cy="24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6"/>
          <a:stretch/>
        </p:blipFill>
        <p:spPr>
          <a:xfrm>
            <a:off x="3962520" y="3395520"/>
            <a:ext cx="1938240" cy="288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7"/>
          <a:stretch/>
        </p:blipFill>
        <p:spPr>
          <a:xfrm>
            <a:off x="2871720" y="5029200"/>
            <a:ext cx="1938240" cy="28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8"/>
          <a:stretch/>
        </p:blipFill>
        <p:spPr>
          <a:xfrm>
            <a:off x="5924520" y="4468680"/>
            <a:ext cx="1944720" cy="28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Лента новостей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Ярмарка профессий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огистик – специалист, регулирующий потоки: складские, транспортные, производственные. Транспортный логистик придумывает схемы перевозки грузов компании, складской логистик занимается организацией хранения продукции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аркетолог – в переводе с латыни «знающий рынок». Специалист, изучающий рынок для того, чтобы узнать потребности покупателей, их вкусы и предпочтения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рчендайзер – это человек, который следит за тем, как товар его фирмы представлен в крупных магазинах. Он обходит магазины, дает советы по размещению товара, по оформлению витрин. Этой специальности пока не обучают ни в одном учебном заведении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3" name="Picture 6" descr="Рисунок23"/>
          <p:cNvPicPr/>
          <p:nvPr/>
        </p:nvPicPr>
        <p:blipFill>
          <a:blip r:embed="rId4"/>
          <a:stretch/>
        </p:blipFill>
        <p:spPr>
          <a:xfrm>
            <a:off x="228600" y="228600"/>
            <a:ext cx="16527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Занимательные факты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Самые редкие профессии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Титестер – дегустатор чая.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Постижёр - это специалист по изготовлению париков, усов, бород и бакенбардов.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Мастер спецэффектов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6" name="Picture 6" descr="Рисунок17"/>
          <p:cNvPicPr/>
          <p:nvPr/>
        </p:nvPicPr>
        <p:blipFill>
          <a:blip r:embed="rId4"/>
          <a:stretch/>
        </p:blipFill>
        <p:spPr>
          <a:xfrm>
            <a:off x="6324480" y="4362480"/>
            <a:ext cx="22910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990720" y="50292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6"/>
          <a:stretch/>
        </p:blipFill>
        <p:spPr>
          <a:xfrm>
            <a:off x="3505320" y="5116680"/>
            <a:ext cx="1790640" cy="1552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7"/>
          <a:stretch/>
        </p:blipFill>
        <p:spPr>
          <a:xfrm>
            <a:off x="6053040" y="3948120"/>
            <a:ext cx="14382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лякса</dc:creator>
  <dc:description/>
  <dc:language>en-US</dc:language>
  <cp:lastModifiedBy>MAGNUM</cp:lastModifiedBy>
  <cp:lastPrinted>2002-01-16T03:48:31Z</cp:lastPrinted>
  <dcterms:modified xsi:type="dcterms:W3CDTF">2002-01-16T04:22:4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